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5.png" ContentType="image/png"/>
  <Override PartName="/ppt/media/image24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4590-A089-47D8-997A-5E55358F3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3194-70ED-49DF-85C6-A0C9B2E47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03C-80C9-4D4B-B160-306218A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E29-FFA7-4BAA-AC5A-90D25783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B8C-6339-4E02-9FE0-9AF9624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167-8977-45DA-B3D5-3FEBCD6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F07-7E6D-47F6-A281-69A051D4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512-8EA9-4DF0-8B05-649B4B3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32F-D085-426B-B593-8988043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08C-EB40-4850-931C-9778C37B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AB5-2E9E-453E-8027-9DF1657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6EB-F266-481E-8E03-3A32025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8B2-D7B3-4C5B-BF1E-1B57926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381-FCDC-4A2E-848A-4D4C55F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8BC-41FF-4BA3-83A0-A8410E3F5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零九年十二月十六</a:t>
            </a:r>
            <a:br>
              <a:rPr sz="5400"/>
            </a:b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對話練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duì   huà   liàn   x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4" descr="MCj04105810000[1]"/>
          <p:cNvPicPr/>
          <p:nvPr/>
        </p:nvPicPr>
        <p:blipFill>
          <a:blip r:embed="rId1"/>
          <a:stretch/>
        </p:blipFill>
        <p:spPr>
          <a:xfrm>
            <a:off x="457200" y="228600"/>
            <a:ext cx="46022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2152630000[1]"/>
          <p:cNvPicPr/>
          <p:nvPr/>
        </p:nvPicPr>
        <p:blipFill>
          <a:blip r:embed="rId2"/>
          <a:stretch/>
        </p:blipFill>
        <p:spPr>
          <a:xfrm>
            <a:off x="228600" y="4876920"/>
            <a:ext cx="2379600" cy="15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MCj03049750000[1]"/>
          <p:cNvPicPr/>
          <p:nvPr/>
        </p:nvPicPr>
        <p:blipFill>
          <a:blip r:embed="rId3"/>
          <a:stretch/>
        </p:blipFill>
        <p:spPr>
          <a:xfrm>
            <a:off x="6858000" y="5105520"/>
            <a:ext cx="1844640" cy="138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j04380750000[1]"/>
          <p:cNvPicPr/>
          <p:nvPr/>
        </p:nvPicPr>
        <p:blipFill>
          <a:blip r:embed="rId4"/>
          <a:stretch/>
        </p:blipFill>
        <p:spPr>
          <a:xfrm>
            <a:off x="7369200" y="0"/>
            <a:ext cx="1774800" cy="150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MCj04381510000[1]"/>
          <p:cNvPicPr/>
          <p:nvPr/>
        </p:nvPicPr>
        <p:blipFill>
          <a:blip r:embed="rId5"/>
          <a:stretch/>
        </p:blipFill>
        <p:spPr>
          <a:xfrm>
            <a:off x="762120" y="2971800"/>
            <a:ext cx="1174680" cy="188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MCj04381550000[1]"/>
          <p:cNvPicPr/>
          <p:nvPr/>
        </p:nvPicPr>
        <p:blipFill>
          <a:blip r:embed="rId6"/>
          <a:stretch/>
        </p:blipFill>
        <p:spPr>
          <a:xfrm>
            <a:off x="7101000" y="3200400"/>
            <a:ext cx="18050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890640" y="380880"/>
            <a:ext cx="1856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快樂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明天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舞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一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歡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MCj04105810000[1]"/>
          <p:cNvPicPr/>
          <p:nvPr/>
        </p:nvPicPr>
        <p:blipFill>
          <a:blip r:embed="rId1"/>
          <a:stretch/>
        </p:blipFill>
        <p:spPr>
          <a:xfrm>
            <a:off x="3200400" y="228600"/>
            <a:ext cx="19810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MCj02152630000[1]"/>
          <p:cNvPicPr/>
          <p:nvPr/>
        </p:nvPicPr>
        <p:blipFill>
          <a:blip r:embed="rId2"/>
          <a:stretch/>
        </p:blipFill>
        <p:spPr>
          <a:xfrm>
            <a:off x="3124080" y="2590920"/>
            <a:ext cx="1752840" cy="122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ogether 1 121609.jpg"/>
          <p:cNvPicPr/>
          <p:nvPr/>
        </p:nvPicPr>
        <p:blipFill>
          <a:blip r:embed="rId3"/>
          <a:stretch/>
        </p:blipFill>
        <p:spPr>
          <a:xfrm>
            <a:off x="2057400" y="4267080"/>
            <a:ext cx="1736640" cy="11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ogether 121609.jpg"/>
          <p:cNvPicPr/>
          <p:nvPr/>
        </p:nvPicPr>
        <p:blipFill>
          <a:blip r:embed="rId4"/>
          <a:stretch/>
        </p:blipFill>
        <p:spPr>
          <a:xfrm>
            <a:off x="4800600" y="3886200"/>
            <a:ext cx="10540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welcome 1121609.jpg"/>
          <p:cNvPicPr/>
          <p:nvPr/>
        </p:nvPicPr>
        <p:blipFill>
          <a:blip r:embed="rId5"/>
          <a:stretch/>
        </p:blipFill>
        <p:spPr>
          <a:xfrm>
            <a:off x="6400800" y="4952880"/>
            <a:ext cx="1460520" cy="162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welcome 121609.jpg"/>
          <p:cNvPicPr/>
          <p:nvPr/>
        </p:nvPicPr>
        <p:blipFill>
          <a:blip r:embed="rId6"/>
          <a:stretch/>
        </p:blipFill>
        <p:spPr>
          <a:xfrm>
            <a:off x="2057400" y="5562720"/>
            <a:ext cx="1625760" cy="92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erry xmas 121609.jpg"/>
          <p:cNvPicPr/>
          <p:nvPr/>
        </p:nvPicPr>
        <p:blipFill>
          <a:blip r:embed="rId7"/>
          <a:stretch/>
        </p:blipFill>
        <p:spPr>
          <a:xfrm>
            <a:off x="5943600" y="2286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47040" y="1770120"/>
            <a:ext cx="85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祝你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 </a:t>
            </a:r>
            <a:r>
              <a:rPr b="1" lang="zh-TW" sz="48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聖誕快樂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</a:t>
            </a:r>
            <a:r>
              <a:rPr b="1" lang="zh-TW" sz="48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歡迎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    </a:t>
            </a:r>
            <a:r>
              <a:rPr b="1" lang="zh-TW" sz="54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謝謝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和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person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+ </a:t>
            </a:r>
            <a:r>
              <a:rPr b="1" lang="zh-TW" sz="54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一起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action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merry xmas 121609.jpg"/>
          <p:cNvPicPr/>
          <p:nvPr/>
        </p:nvPicPr>
        <p:blipFill>
          <a:blip r:embed="rId1"/>
          <a:stretch/>
        </p:blipFill>
        <p:spPr>
          <a:xfrm>
            <a:off x="212760" y="152280"/>
            <a:ext cx="257976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welcome 1121609.jpg"/>
          <p:cNvPicPr/>
          <p:nvPr/>
        </p:nvPicPr>
        <p:blipFill>
          <a:blip r:embed="rId2"/>
          <a:stretch/>
        </p:blipFill>
        <p:spPr>
          <a:xfrm>
            <a:off x="5181480" y="228600"/>
            <a:ext cx="1905120" cy="16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ake phone call 1 120709.jpg"/>
          <p:cNvPicPr/>
          <p:nvPr/>
        </p:nvPicPr>
        <p:blipFill>
          <a:blip r:embed="rId3"/>
          <a:stretch/>
        </p:blipFill>
        <p:spPr>
          <a:xfrm>
            <a:off x="457200" y="5181480"/>
            <a:ext cx="1603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412280" y="1243800"/>
            <a:ext cx="6215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請 你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我 家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來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</a:t>
            </a:r>
            <a:br>
              <a:rPr sz="6600"/>
            </a:b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生日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/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新年</a:t>
            </a:r>
            <a:r>
              <a:rPr b="1" lang="en-US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請 你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我 家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來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</a:t>
            </a:r>
            <a:br>
              <a:rPr sz="6600"/>
            </a:b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唱生日快樂歌</a:t>
            </a:r>
            <a:r>
              <a:rPr b="1" lang="en-US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請 你 到 我 家 來 </a:t>
            </a:r>
            <a:r>
              <a:rPr b="1" lang="en-US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verbs)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1" descr=""/>
          <p:cNvPicPr/>
          <p:nvPr/>
        </p:nvPicPr>
        <p:blipFill>
          <a:blip r:embed="rId1"/>
          <a:stretch/>
        </p:blipFill>
        <p:spPr>
          <a:xfrm>
            <a:off x="480960" y="2114640"/>
            <a:ext cx="7639200" cy="763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04920"/>
            <a:ext cx="8915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和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person 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+ </a:t>
            </a:r>
            <a:r>
              <a:rPr b="1" lang="zh-TW" sz="60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一起</a:t>
            </a: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action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990720" y="762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" y="228600"/>
            <a:ext cx="8381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喂，你是李大生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是呀，我是李大生。你是王小三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是呀，我是王小三。聖誕快樂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聖誕快樂！明天我家有聖誕舞會，請你到我家來唱歌，跳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太好了，我和我哥哥一起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歡迎，歡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謝謝，謝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MCj03438870000[1]"/>
          <p:cNvPicPr/>
          <p:nvPr/>
        </p:nvPicPr>
        <p:blipFill>
          <a:blip r:embed="rId1"/>
          <a:stretch/>
        </p:blipFill>
        <p:spPr>
          <a:xfrm>
            <a:off x="4343400" y="4724280"/>
            <a:ext cx="3733920" cy="186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Cj02154680000[1]"/>
          <p:cNvPicPr/>
          <p:nvPr/>
        </p:nvPicPr>
        <p:blipFill>
          <a:blip r:embed="rId2"/>
          <a:stretch/>
        </p:blipFill>
        <p:spPr>
          <a:xfrm>
            <a:off x="7238880" y="3200400"/>
            <a:ext cx="123372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Cj03831600000[1]"/>
          <p:cNvPicPr/>
          <p:nvPr/>
        </p:nvPicPr>
        <p:blipFill>
          <a:blip r:embed="rId3"/>
          <a:stretch/>
        </p:blipFill>
        <p:spPr>
          <a:xfrm>
            <a:off x="7772400" y="304920"/>
            <a:ext cx="1143000" cy="1868400"/>
          </a:xfrm>
          <a:prstGeom prst="rect">
            <a:avLst/>
          </a:prstGeom>
          <a:ln w="0">
            <a:noFill/>
          </a:ln>
        </p:spPr>
      </p:pic>
      <p:pic>
        <p:nvPicPr>
          <p:cNvPr id="77" name="Video 15.wmv" descr=""/>
          <p:cNvPicPr/>
          <p:nvPr/>
        </p:nvPicPr>
        <p:blipFill>
          <a:blip r:embed="rId4"/>
          <a:stretch/>
        </p:blipFill>
        <p:spPr>
          <a:xfrm>
            <a:off x="8229600" y="19051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SSN00819_0000[1].wav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MCj04105690000[1]"/>
          <p:cNvPicPr/>
          <p:nvPr/>
        </p:nvPicPr>
        <p:blipFill>
          <a:blip r:embed="rId2"/>
          <a:stretch/>
        </p:blipFill>
        <p:spPr>
          <a:xfrm>
            <a:off x="2514600" y="2971800"/>
            <a:ext cx="4343400" cy="131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533520" y="762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MCj02321360000[1]"/>
          <p:cNvPicPr/>
          <p:nvPr/>
        </p:nvPicPr>
        <p:blipFill>
          <a:blip r:embed="rId3"/>
          <a:stretch/>
        </p:blipFill>
        <p:spPr>
          <a:xfrm>
            <a:off x="304920" y="3429000"/>
            <a:ext cx="831600" cy="109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MCBD09474_0000[1]"/>
          <p:cNvPicPr/>
          <p:nvPr/>
        </p:nvPicPr>
        <p:blipFill>
          <a:blip r:embed="rId4"/>
          <a:stretch/>
        </p:blipFill>
        <p:spPr>
          <a:xfrm>
            <a:off x="7086600" y="2743200"/>
            <a:ext cx="1778040" cy="160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Cj02816920000[1]"/>
          <p:cNvPicPr/>
          <p:nvPr/>
        </p:nvPicPr>
        <p:blipFill>
          <a:blip r:embed="rId5"/>
          <a:stretch/>
        </p:blipFill>
        <p:spPr>
          <a:xfrm>
            <a:off x="1219320" y="3276720"/>
            <a:ext cx="976320" cy="1218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762120" y="685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52280" y="533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三：外婆，我有三個小皮球，三本     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故事書，可是只有一個玩具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2860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：小三三，明天聖誕老公公送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你兩個玩具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2" descr="MPj04409430000[1]"/>
          <p:cNvPicPr/>
          <p:nvPr/>
        </p:nvPicPr>
        <p:blipFill>
          <a:blip r:embed="rId6"/>
          <a:stretch/>
        </p:blipFill>
        <p:spPr>
          <a:xfrm>
            <a:off x="7543800" y="380880"/>
            <a:ext cx="126828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2"/>
          <p:cNvSpPr/>
          <p:nvPr/>
        </p:nvSpPr>
        <p:spPr>
          <a:xfrm>
            <a:off x="228600" y="4457880"/>
            <a:ext cx="86104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（第二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三：外婆，聖誕老公公到我家來了！他送了我兩個玩具熊。現在我有三個玩具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3124080" y="152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第一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Video 16.wmv" descr=""/>
          <p:cNvPicPr/>
          <p:nvPr/>
        </p:nvPicPr>
        <p:blipFill>
          <a:blip r:embed="rId7"/>
          <a:stretch/>
        </p:blipFill>
        <p:spPr>
          <a:xfrm>
            <a:off x="838080" y="4267080"/>
            <a:ext cx="4572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xmas song monica 121609.m3u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4" descr=""/>
          <p:cNvPicPr/>
          <p:nvPr/>
        </p:nvPicPr>
        <p:blipFill>
          <a:blip r:embed="rId2"/>
          <a:stretch/>
        </p:blipFill>
        <p:spPr>
          <a:xfrm>
            <a:off x="225360" y="493560"/>
            <a:ext cx="862020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504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01:58Z</dcterms:created>
  <dc:creator>Monica</dc:creator>
  <dc:description/>
  <dc:language>en-US</dc:language>
  <cp:lastModifiedBy>Monica</cp:lastModifiedBy>
  <dcterms:modified xsi:type="dcterms:W3CDTF">2009-12-16T22:32:16Z</dcterms:modified>
  <cp:revision>4</cp:revision>
  <dc:subject/>
  <dc:title>二零零九年十二月十六 星期三</dc:title>
</cp:coreProperties>
</file>